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3531C-3C49-4BA2-B433-ACF099A4EA56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3423A-A70E-4CFD-A123-CB0C494B4BB5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9F2E-A87E-4418-B1D0-4551F6D2B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C168-4908-4B29-BA53-91DC4FAFF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0B34-32B5-4CE2-912D-DDBE6B191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5682-A4AB-40EE-8619-0CBF9C5AD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3C98-5739-40E2-A907-64ADFA949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0891-3E93-41A9-BB19-F1C832A7B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F71F-8250-4DB2-97CF-BA8B06F91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3FE1-322C-48CA-9740-BC379C0F0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17CF-141B-4C3D-BBDF-09F2FE499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9032-3C71-4B46-AFDF-8DA8ED265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80D2-B0EA-4091-A1D6-1BB40E4EE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A88A-0273-4C3B-AD36-1E46F5C24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48A33-8CFB-4134-AB82-3D1EE4149AAC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6000840"/>
          <a:ext cx="6215040" cy="107316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55720"/>
                <a:gridCol w="717480"/>
              </a:tblGrid>
              <a:tr h="23292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714384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484200"/>
                <a:gridCol w="1230120"/>
                <a:gridCol w="571680"/>
                <a:gridCol w="642960"/>
                <a:gridCol w="866520"/>
                <a:gridCol w="865440"/>
                <a:gridCol w="98244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장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4643280"/>
          <a:ext cx="6215040" cy="130176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684360"/>
                <a:gridCol w="730080"/>
              </a:tblGrid>
              <a:tr h="3625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4000680"/>
          <a:ext cx="6215040" cy="56808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19548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205740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54" name="Picture 240" descr=""/>
          <p:cNvPicPr/>
          <p:nvPr/>
        </p:nvPicPr>
        <p:blipFill>
          <a:blip r:embed="rId1"/>
          <a:stretch/>
        </p:blipFill>
        <p:spPr>
          <a:xfrm>
            <a:off x="357120" y="285840"/>
            <a:ext cx="949320" cy="428400"/>
          </a:xfrm>
          <a:prstGeom prst="rect">
            <a:avLst/>
          </a:prstGeom>
          <a:ln w="0">
            <a:noFill/>
          </a:ln>
        </p:spPr>
      </p:pic>
      <p:sp>
        <p:nvSpPr>
          <p:cNvPr id="55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5873040" y="47844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입사원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57120" y="75708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48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71520" y="2697120"/>
          <a:ext cx="6205320" cy="1241640"/>
        </p:xfrm>
        <a:graphic>
          <a:graphicData uri="http://schemas.openxmlformats.org/drawingml/2006/table">
            <a:tbl>
              <a:tblPr/>
              <a:tblGrid>
                <a:gridCol w="571320"/>
                <a:gridCol w="571680"/>
                <a:gridCol w="1143000"/>
                <a:gridCol w="700200"/>
                <a:gridCol w="1008000"/>
                <a:gridCol w="1025280"/>
                <a:gridCol w="54612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76280" y="565200"/>
          <a:ext cx="5952960" cy="61498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47448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3556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984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0" name="Picture 240" descr=""/>
          <p:cNvPicPr/>
          <p:nvPr/>
        </p:nvPicPr>
        <p:blipFill>
          <a:blip r:embed="rId1"/>
          <a:stretch/>
        </p:blipFill>
        <p:spPr>
          <a:xfrm>
            <a:off x="479520" y="9684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"/>
          <p:cNvSpPr/>
          <p:nvPr/>
        </p:nvSpPr>
        <p:spPr>
          <a:xfrm>
            <a:off x="455760" y="7826400"/>
            <a:ext cx="5946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4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500040" y="678672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7T02:51:31Z</dcterms:modified>
  <cp:revision>123</cp:revision>
  <dc:subject/>
  <dc:title>슬라이드 1</dc:title>
</cp:coreProperties>
</file>