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5728B0-1649-400F-BBD0-BC22294D1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2FBF34-C7D9-4492-9808-FA5D8BBF0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BB7C83-07F4-48CA-9B34-2846103D0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022025-1ADB-4EDF-BB4E-51A07B3E2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C648E-BAA1-4918-8348-3A64D7B93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C28A8-FAFF-439E-989A-5076CA755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643D1-7AA4-45B8-BBF3-BD7EF60DA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0250B-7435-4870-AFC3-E5CFA99B6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F05AF-E1BC-43EC-BEB8-DAE6E9FDC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36AD7-4F87-49B1-9499-3DF5BA837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4FB49-FA51-4664-8132-16529F4EF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FB288C-7DDB-4372-8A9A-EA82147D0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E3E02-1B16-43FE-8F87-2B920D802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FC8EE-2A8D-4CDD-9E83-C2153B4EF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7CD12-834E-4877-B729-D5CACEF7D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20EDB-CE9F-4892-AF4C-E8FA15A7B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1BB18-2FB6-4C71-823E-06A5E095E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BA2554-E829-496C-AB75-7BFDE6F08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6F6AD5-538E-4A3C-AAAD-A6BC860E2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ECBE4C-FD4D-4A8E-A203-3C63C0D93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D8DF0A-A2CA-46F6-8E80-2FA0D2016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C62829-4C2E-4C62-B8B7-37B8A4EC9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CB0BE-82D1-46E2-8C5F-527B77C88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2714C4-9995-448D-87C7-F57817D4E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54015-6C86-4744-84EB-709573E3DCB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B92AA-1CFF-47C4-8006-530761EDC9D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개선 및 이용개발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graphicFrame>
        <p:nvGraphicFramePr>
          <p:cNvPr id="560" name=""/>
          <p:cNvGraphicFramePr/>
          <p:nvPr/>
        </p:nvGraphicFramePr>
        <p:xfrm>
          <a:off x="609480" y="3716280"/>
          <a:ext cx="8099280" cy="2484000"/>
        </p:xfrm>
        <a:graphic>
          <a:graphicData uri="http://schemas.openxmlformats.org/drawingml/2006/table">
            <a:tbl>
              <a:tblPr/>
              <a:tblGrid>
                <a:gridCol w="3297240"/>
                <a:gridCol w="1361880"/>
                <a:gridCol w="1362240"/>
                <a:gridCol w="1361880"/>
                <a:gridCol w="716040"/>
              </a:tblGrid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요           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IAA100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㎎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/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IBA100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㎎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/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S PGothic"/>
                          <a:ea typeface="MS PGothic"/>
                        </a:rPr>
                        <a:t>NAA100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MS PGothic"/>
                        </a:rPr>
                        <a:t>㎎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S PGothic"/>
                        </a:rPr>
                        <a:t>/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비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피트모스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버미클라이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5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8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6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3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피트모스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버미큘라이트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펄라이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5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8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1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3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피트모스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펄라이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2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7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7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4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일반토양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4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6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4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3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561" name=""/>
          <p:cNvGrpSpPr/>
          <p:nvPr/>
        </p:nvGrpSpPr>
        <p:grpSpPr>
          <a:xfrm>
            <a:off x="429120" y="1197000"/>
            <a:ext cx="8606880" cy="1601640"/>
            <a:chOff x="429120" y="1197000"/>
            <a:chExt cx="8606880" cy="1601640"/>
          </a:xfrm>
        </p:grpSpPr>
        <p:sp>
          <p:nvSpPr>
            <p:cNvPr id="562" name=""/>
            <p:cNvSpPr/>
            <p:nvPr/>
          </p:nvSpPr>
          <p:spPr>
            <a:xfrm>
              <a:off x="429120" y="1197000"/>
              <a:ext cx="2871000" cy="4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600" spc="-1" strike="noStrike">
                  <a:solidFill>
                    <a:srgbClr val="f8f200"/>
                  </a:solidFill>
                  <a:latin typeface="굴림"/>
                </a:rPr>
                <a:t>♦ </a:t>
              </a:r>
              <a:r>
                <a:rPr b="1" lang="ko-KR" sz="2400" spc="-1" strike="noStrike">
                  <a:solidFill>
                    <a:srgbClr val="f8f200"/>
                  </a:solidFill>
                  <a:latin typeface="굴림"/>
                </a:rPr>
                <a:t>황칠나무 선발육종</a:t>
              </a:r>
              <a:endParaRPr b="0" lang="en-US" sz="24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563" name=""/>
            <p:cNvGrpSpPr/>
            <p:nvPr/>
          </p:nvGrpSpPr>
          <p:grpSpPr>
            <a:xfrm>
              <a:off x="725760" y="2305080"/>
              <a:ext cx="8310240" cy="493560"/>
              <a:chOff x="725760" y="2305080"/>
              <a:chExt cx="8310240" cy="493560"/>
            </a:xfrm>
          </p:grpSpPr>
          <p:sp>
            <p:nvSpPr>
              <p:cNvPr id="564" name=""/>
              <p:cNvSpPr/>
              <p:nvPr/>
            </p:nvSpPr>
            <p:spPr>
              <a:xfrm>
                <a:off x="741600" y="2305080"/>
                <a:ext cx="8294400" cy="493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343080" indent="-343080">
                  <a:lnSpc>
                    <a:spcPct val="12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725760" y="2311560"/>
                <a:ext cx="829440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343080" indent="-343080">
                  <a:lnSpc>
                    <a:spcPct val="12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566" name=""/>
          <p:cNvSpPr/>
          <p:nvPr/>
        </p:nvSpPr>
        <p:spPr>
          <a:xfrm>
            <a:off x="611280" y="1782720"/>
            <a:ext cx="806436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생산이 많은 우량개체로부터 삽수나 접수를 채취 그 차대를 이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우량개체의 증식에는 삽목에 의한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여러가지 양분이 혼합된 배양토를 처리해서 나무를 증식하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개선 및 이용개발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68" name=""/>
          <p:cNvSpPr/>
          <p:nvPr/>
        </p:nvSpPr>
        <p:spPr>
          <a:xfrm>
            <a:off x="4548240" y="1219320"/>
            <a:ext cx="37242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8f200"/>
                </a:solidFill>
                <a:latin typeface="굴림"/>
              </a:rPr>
              <a:t>♦ </a:t>
            </a:r>
            <a:r>
              <a:rPr b="1" lang="ko-KR" sz="2400" spc="-1" strike="noStrike">
                <a:solidFill>
                  <a:srgbClr val="f8f200"/>
                </a:solidFill>
                <a:latin typeface="굴림"/>
              </a:rPr>
              <a:t>미생물에 의한 황칠분비 촉진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569" name="" descr=""/>
          <p:cNvPicPr/>
          <p:nvPr/>
        </p:nvPicPr>
        <p:blipFill>
          <a:blip r:embed="rId1"/>
          <a:stretch/>
        </p:blipFill>
        <p:spPr>
          <a:xfrm>
            <a:off x="395280" y="1341360"/>
            <a:ext cx="3538440" cy="4824360"/>
          </a:xfrm>
          <a:prstGeom prst="rect">
            <a:avLst/>
          </a:prstGeom>
          <a:ln w="28440">
            <a:solidFill>
              <a:srgbClr val="dfdef6"/>
            </a:solidFill>
            <a:miter/>
          </a:ln>
        </p:spPr>
      </p:pic>
      <p:sp>
        <p:nvSpPr>
          <p:cNvPr id="570" name=""/>
          <p:cNvSpPr/>
          <p:nvPr/>
        </p:nvSpPr>
        <p:spPr>
          <a:xfrm>
            <a:off x="4356000" y="1773360"/>
            <a:ext cx="4572000" cy="308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나무수 피에 상처를 내고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회색고약병균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Septobasodoum sp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을 접종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최적 처리시기는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월 중순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처리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일 후부터 균주의 접종이 확인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의 분비가 촉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결론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72" name=""/>
          <p:cNvSpPr/>
          <p:nvPr/>
        </p:nvSpPr>
        <p:spPr>
          <a:xfrm>
            <a:off x="395280" y="1125360"/>
            <a:ext cx="8353440" cy="32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버미큘라이트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펄라이트 및 피트모스를 혼합한 배양토에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IBA100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㎎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/ℓ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를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처리하는 것이 가장 효과적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이때의 발근율은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82%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로 비교군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34%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와 비교하여 약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배의 발근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촉진효과접종구당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면적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1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평균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g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도 분비되었으며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가장 많이 분비된 경우는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7g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까지 분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칠이 분비되는 동안 임목에 큰 피해를 입히지 않았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결론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74" name=""/>
          <p:cNvSpPr/>
          <p:nvPr/>
        </p:nvSpPr>
        <p:spPr>
          <a:xfrm>
            <a:off x="395280" y="1125360"/>
            <a:ext cx="8353440" cy="462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칠은 그 채취량이 극소량이기 때문에 소량의 황칠을 사용하여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부가가치를 지닌 제품을 창출할 수 있는 방향으로 이용하는 것이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무엇보다 중요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금빛 찬란한 천연도료로써 목공예품을 화려하게 보이게 하기 때문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품격의 목재용 화장도료로 최적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향기가 좋기 때문에 안방가구나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합죽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목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병풍 등에 칠하여 한국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유의 칠기 제품으로 개발하는 것이 바람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개체에 따라서 형태적 특성 및 칠액 생산량에 다양한 변이가 존재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칠나무 천연집단의 형태적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유전적 변이를 조사하고 그 요인들을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토대로 칠액 생산량이 많은 우량개체를 선발하여 개발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에 대하여는 전통 장인들도 지식과 정보가 전혀 없음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공예 장인도 현존하지 않음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최근 국민생활 수준의 향상과 더불어 고급공예품의 선호도가 높아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부가가치가 높은 상품으로서의 개발이 요구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우리나라 특산식물인 황칠나무의 수지액의 특성과 천연도료적 가치의 우수성을 재인식시키며 이를 산업화하는 것이 중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에 함유된 정유성분은 천연 항료나 약용자원으로써의 가치가 있는 것으로 규명되어 앞으로 그 수요와 활용도는 증가할 것으로 예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개요</a:t>
            </a: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굴림"/>
              </a:rPr>
              <a:t>황칠나무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18" name=""/>
          <p:cNvGrpSpPr/>
          <p:nvPr/>
        </p:nvGrpSpPr>
        <p:grpSpPr>
          <a:xfrm>
            <a:off x="492120" y="1514160"/>
            <a:ext cx="8304120" cy="4158360"/>
            <a:chOff x="492120" y="1514160"/>
            <a:chExt cx="8304120" cy="4158360"/>
          </a:xfrm>
        </p:grpSpPr>
        <p:sp>
          <p:nvSpPr>
            <p:cNvPr id="519" name=""/>
            <p:cNvSpPr/>
            <p:nvPr/>
          </p:nvSpPr>
          <p:spPr>
            <a:xfrm>
              <a:off x="515880" y="3278160"/>
              <a:ext cx="8280360" cy="66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17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492120" y="1514160"/>
              <a:ext cx="8280360" cy="415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두릅나무과에 난대 상록활엽수로 키가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7∼15m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정도 자라는 교목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줄기는 곧고 흑갈색이며 가지는 굵고 녹색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잎은 호생하고 엽병이 길며 달걀모양 또는 타원형에 혁질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분포지는 전남 완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보길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대흑산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어청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제주도 등지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자생지의 입지조건은 월평균 최저기온이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2℃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이상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지형은 화산암으로 산록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~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산복에 분포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550"/>
                </a:spcBef>
                <a:buSzPct val="12343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표고는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150~700m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에 걸쳐 생육</a:t>
              </a:r>
              <a:r>
                <a:rPr b="1" lang="ko-KR" sz="2200" spc="-1" strike="noStrike">
                  <a:solidFill>
                    <a:srgbClr val="ffffff"/>
                  </a:solidFill>
                  <a:latin typeface="굴림"/>
                </a:rPr>
                <a:t> </a:t>
              </a:r>
              <a:endParaRPr b="0" lang="en-US" sz="22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1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나무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431640" y="1592280"/>
            <a:ext cx="3600720" cy="4989240"/>
            <a:chOff x="431640" y="1592280"/>
            <a:chExt cx="3600720" cy="4989240"/>
          </a:xfrm>
        </p:grpSpPr>
        <p:pic>
          <p:nvPicPr>
            <p:cNvPr id="523" name="" descr=""/>
            <p:cNvPicPr/>
            <p:nvPr/>
          </p:nvPicPr>
          <p:blipFill>
            <a:blip r:embed="rId1"/>
            <a:stretch/>
          </p:blipFill>
          <p:spPr>
            <a:xfrm>
              <a:off x="431640" y="1592280"/>
              <a:ext cx="3600720" cy="4932360"/>
            </a:xfrm>
            <a:prstGeom prst="rect">
              <a:avLst/>
            </a:prstGeom>
            <a:ln w="28440">
              <a:solidFill>
                <a:srgbClr val="ffffff"/>
              </a:solidFill>
              <a:miter/>
            </a:ln>
          </p:spPr>
        </p:pic>
        <p:grpSp>
          <p:nvGrpSpPr>
            <p:cNvPr id="524" name=""/>
            <p:cNvGrpSpPr/>
            <p:nvPr/>
          </p:nvGrpSpPr>
          <p:grpSpPr>
            <a:xfrm>
              <a:off x="1175400" y="5899320"/>
              <a:ext cx="2251440" cy="682200"/>
              <a:chOff x="1175400" y="5899320"/>
              <a:chExt cx="2251440" cy="682200"/>
            </a:xfrm>
          </p:grpSpPr>
          <p:sp>
            <p:nvSpPr>
              <p:cNvPr id="525" name=""/>
              <p:cNvSpPr/>
              <p:nvPr/>
            </p:nvSpPr>
            <p:spPr>
              <a:xfrm>
                <a:off x="1194120" y="5918040"/>
                <a:ext cx="2232720" cy="66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343080" indent="-343080">
                  <a:lnSpc>
                    <a:spcPct val="17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0000"/>
                    </a:solidFill>
                    <a:latin typeface="굴림"/>
                  </a:rPr>
                  <a:t>&lt;</a:t>
                </a:r>
                <a:r>
                  <a:rPr b="1" lang="zh-CN" sz="2200" spc="-1" strike="noStrike">
                    <a:solidFill>
                      <a:srgbClr val="000000"/>
                    </a:solidFill>
                    <a:latin typeface="굴림"/>
                  </a:rPr>
                  <a:t>세부적 특성</a:t>
                </a:r>
                <a:r>
                  <a:rPr b="1" lang="en-US" sz="2200" spc="-1" strike="noStrike">
                    <a:solidFill>
                      <a:srgbClr val="000000"/>
                    </a:solidFill>
                    <a:latin typeface="굴림"/>
                  </a:rPr>
                  <a:t>&gt;</a:t>
                </a:r>
                <a:endParaRPr b="0" lang="en-US" sz="22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1175400" y="5899320"/>
                <a:ext cx="2232720" cy="66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343080" indent="-343080">
                  <a:lnSpc>
                    <a:spcPct val="17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dfdef6"/>
                    </a:solidFill>
                    <a:latin typeface="굴림"/>
                  </a:rPr>
                  <a:t>&lt;</a:t>
                </a:r>
                <a:r>
                  <a:rPr b="1" lang="zh-CN" sz="2200" spc="-1" strike="noStrike">
                    <a:solidFill>
                      <a:srgbClr val="dfdef6"/>
                    </a:solidFill>
                    <a:latin typeface="굴림"/>
                  </a:rPr>
                  <a:t>세부적 특성</a:t>
                </a:r>
                <a:r>
                  <a:rPr b="1" lang="en-US" sz="2200" spc="-1" strike="noStrike">
                    <a:solidFill>
                      <a:srgbClr val="dfdef6"/>
                    </a:solidFill>
                    <a:latin typeface="굴림"/>
                  </a:rPr>
                  <a:t>&gt;</a:t>
                </a:r>
                <a:endParaRPr b="0" lang="en-US" sz="22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527" name=""/>
          <p:cNvSpPr/>
          <p:nvPr/>
        </p:nvSpPr>
        <p:spPr>
          <a:xfrm>
            <a:off x="4427640" y="1700280"/>
            <a:ext cx="439236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나무의 해부학적 특성 환공재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도관사이의 벽공이 교호상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수평수지구를 가진다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나무의 목질부와 수피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화학적 조성은 일반 상록 활엽수재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와 유사하다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Clr>
                <a:srgbClr val="dfdef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나무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29" name=""/>
          <p:cNvGrpSpPr/>
          <p:nvPr/>
        </p:nvGrpSpPr>
        <p:grpSpPr>
          <a:xfrm>
            <a:off x="4129200" y="2012400"/>
            <a:ext cx="5037120" cy="3821040"/>
            <a:chOff x="4129200" y="2012400"/>
            <a:chExt cx="5037120" cy="3821040"/>
          </a:xfrm>
        </p:grpSpPr>
        <p:sp>
          <p:nvSpPr>
            <p:cNvPr id="530" name=""/>
            <p:cNvSpPr/>
            <p:nvPr/>
          </p:nvSpPr>
          <p:spPr>
            <a:xfrm>
              <a:off x="4151160" y="2012400"/>
              <a:ext cx="5015160" cy="382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산형화서로 화경은 길이가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3∼5cm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소화경은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5∼10mm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정도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양성화로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6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월에 연한 황록색으로 개화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꽃받침은 종형 또는 도란형으로 끝이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    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5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개로 갈라짐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꽃잎과 수술이 각각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5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개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과실은 타원형으로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10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월에 검게 익음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4129200" y="3543840"/>
              <a:ext cx="5014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2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ffffff"/>
                  </a:solidFill>
                  <a:uFillTx/>
                  <a:latin typeface="굴림"/>
                </a:rPr>
                <a:t>.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grpSp>
        <p:nvGrpSpPr>
          <p:cNvPr id="532" name=""/>
          <p:cNvGrpSpPr/>
          <p:nvPr/>
        </p:nvGrpSpPr>
        <p:grpSpPr>
          <a:xfrm>
            <a:off x="431640" y="1592280"/>
            <a:ext cx="3600720" cy="5069160"/>
            <a:chOff x="431640" y="1592280"/>
            <a:chExt cx="3600720" cy="5069160"/>
          </a:xfrm>
        </p:grpSpPr>
        <p:grpSp>
          <p:nvGrpSpPr>
            <p:cNvPr id="533" name=""/>
            <p:cNvGrpSpPr/>
            <p:nvPr/>
          </p:nvGrpSpPr>
          <p:grpSpPr>
            <a:xfrm>
              <a:off x="431640" y="1592280"/>
              <a:ext cx="3600720" cy="2326320"/>
              <a:chOff x="431640" y="1592280"/>
              <a:chExt cx="3600720" cy="2326320"/>
            </a:xfrm>
          </p:grpSpPr>
          <p:pic>
            <p:nvPicPr>
              <p:cNvPr id="534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431640" y="1592280"/>
                <a:ext cx="3600720" cy="2295720"/>
              </a:xfrm>
              <a:prstGeom prst="rect">
                <a:avLst/>
              </a:prstGeom>
              <a:ln w="28440">
                <a:solidFill>
                  <a:srgbClr val="ffffff"/>
                </a:solidFill>
                <a:miter/>
              </a:ln>
            </p:spPr>
          </p:pic>
          <p:grpSp>
            <p:nvGrpSpPr>
              <p:cNvPr id="535" name=""/>
              <p:cNvGrpSpPr/>
              <p:nvPr/>
            </p:nvGrpSpPr>
            <p:grpSpPr>
              <a:xfrm>
                <a:off x="1635120" y="3538440"/>
                <a:ext cx="1424160" cy="380160"/>
                <a:chOff x="1635120" y="3538440"/>
                <a:chExt cx="1424160" cy="380160"/>
              </a:xfrm>
            </p:grpSpPr>
            <p:sp>
              <p:nvSpPr>
                <p:cNvPr id="536" name=""/>
                <p:cNvSpPr/>
                <p:nvPr/>
              </p:nvSpPr>
              <p:spPr>
                <a:xfrm>
                  <a:off x="1655640" y="3556800"/>
                  <a:ext cx="140364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000000"/>
                      </a:solidFill>
                      <a:latin typeface="굴림"/>
                    </a:rPr>
                    <a:t>잎사귀</a:t>
                  </a: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>
                  <a:off x="1635120" y="3538440"/>
                  <a:ext cx="140328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dfdef6"/>
                      </a:solidFill>
                      <a:latin typeface="굴림"/>
                    </a:rPr>
                    <a:t>잎사귀</a:t>
                  </a: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</p:grpSp>
        </p:grpSp>
        <p:grpSp>
          <p:nvGrpSpPr>
            <p:cNvPr id="538" name=""/>
            <p:cNvGrpSpPr/>
            <p:nvPr/>
          </p:nvGrpSpPr>
          <p:grpSpPr>
            <a:xfrm>
              <a:off x="431640" y="3897360"/>
              <a:ext cx="3600720" cy="2764080"/>
              <a:chOff x="431640" y="3897360"/>
              <a:chExt cx="3600720" cy="2764080"/>
            </a:xfrm>
          </p:grpSpPr>
          <p:pic>
            <p:nvPicPr>
              <p:cNvPr id="539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431640" y="3897360"/>
                <a:ext cx="3600720" cy="2635560"/>
              </a:xfrm>
              <a:prstGeom prst="rect">
                <a:avLst/>
              </a:prstGeom>
              <a:ln w="28440">
                <a:solidFill>
                  <a:srgbClr val="dfdef6"/>
                </a:solidFill>
                <a:miter/>
              </a:ln>
            </p:spPr>
          </p:pic>
          <p:grpSp>
            <p:nvGrpSpPr>
              <p:cNvPr id="540" name=""/>
              <p:cNvGrpSpPr/>
              <p:nvPr/>
            </p:nvGrpSpPr>
            <p:grpSpPr>
              <a:xfrm>
                <a:off x="1213920" y="5977080"/>
                <a:ext cx="2084040" cy="684360"/>
                <a:chOff x="1213920" y="5977080"/>
                <a:chExt cx="2084040" cy="684360"/>
              </a:xfrm>
            </p:grpSpPr>
            <p:sp>
              <p:nvSpPr>
                <p:cNvPr id="541" name=""/>
                <p:cNvSpPr/>
                <p:nvPr/>
              </p:nvSpPr>
              <p:spPr>
                <a:xfrm>
                  <a:off x="1233000" y="5997960"/>
                  <a:ext cx="2064960" cy="66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343080" indent="-343080">
                    <a:lnSpc>
                      <a:spcPct val="17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000000"/>
                      </a:solidFill>
                      <a:latin typeface="굴림"/>
                    </a:rPr>
                    <a:t>꽃과 열매</a:t>
                  </a: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>
                  <a:off x="1213920" y="5977080"/>
                  <a:ext cx="2064960" cy="66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343080" indent="-343080">
                    <a:lnSpc>
                      <a:spcPct val="17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dfdef6"/>
                      </a:solidFill>
                      <a:latin typeface="굴림"/>
                    </a:rPr>
                    <a:t>꽃과 열매</a:t>
                  </a: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</p:grpSp>
        </p:grpSp>
      </p:grp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2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pic>
        <p:nvPicPr>
          <p:cNvPr id="544" name="" descr=""/>
          <p:cNvPicPr/>
          <p:nvPr/>
        </p:nvPicPr>
        <p:blipFill>
          <a:blip r:embed="rId1"/>
          <a:srcRect l="0" t="0" r="0" b="10588"/>
          <a:stretch/>
        </p:blipFill>
        <p:spPr>
          <a:xfrm>
            <a:off x="179280" y="1125360"/>
            <a:ext cx="3888000" cy="5328000"/>
          </a:xfrm>
          <a:prstGeom prst="rect">
            <a:avLst/>
          </a:prstGeom>
          <a:ln w="28440">
            <a:solidFill>
              <a:srgbClr val="dfdef6"/>
            </a:solidFill>
            <a:miter/>
          </a:ln>
        </p:spPr>
      </p:pic>
      <p:sp>
        <p:nvSpPr>
          <p:cNvPr id="545" name=""/>
          <p:cNvSpPr/>
          <p:nvPr/>
        </p:nvSpPr>
        <p:spPr>
          <a:xfrm>
            <a:off x="4321080" y="1268280"/>
            <a:ext cx="4572000" cy="42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은 상록 교목인 황칠나무에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채취되는 우리나라 고유의 전통수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공예는 삼국사기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계림지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고려사절요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고려도경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임원십육지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여러 문헌 자료에 기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갑옻과 투구에 황금색을 나타내기 위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나무 에서 나오는 천연 투명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*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특징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황금빛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안식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8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47" name=""/>
          <p:cNvGrpSpPr/>
          <p:nvPr/>
        </p:nvGrpSpPr>
        <p:grpSpPr>
          <a:xfrm>
            <a:off x="431640" y="1305000"/>
            <a:ext cx="3600720" cy="4933800"/>
            <a:chOff x="431640" y="1305000"/>
            <a:chExt cx="3600720" cy="4933800"/>
          </a:xfrm>
        </p:grpSpPr>
        <p:grpSp>
          <p:nvGrpSpPr>
            <p:cNvPr id="548" name=""/>
            <p:cNvGrpSpPr/>
            <p:nvPr/>
          </p:nvGrpSpPr>
          <p:grpSpPr>
            <a:xfrm>
              <a:off x="431640" y="3716280"/>
              <a:ext cx="3600720" cy="2522520"/>
              <a:chOff x="431640" y="3716280"/>
              <a:chExt cx="3600720" cy="2522520"/>
            </a:xfrm>
          </p:grpSpPr>
          <p:pic>
            <p:nvPicPr>
              <p:cNvPr id="549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431640" y="3716280"/>
                <a:ext cx="3600720" cy="2459880"/>
              </a:xfrm>
              <a:prstGeom prst="rect">
                <a:avLst/>
              </a:prstGeom>
              <a:ln w="28440">
                <a:solidFill>
                  <a:srgbClr val="ffffff"/>
                </a:solidFill>
                <a:miter/>
              </a:ln>
            </p:spPr>
          </p:pic>
          <p:grpSp>
            <p:nvGrpSpPr>
              <p:cNvPr id="550" name=""/>
              <p:cNvGrpSpPr/>
              <p:nvPr/>
            </p:nvGrpSpPr>
            <p:grpSpPr>
              <a:xfrm>
                <a:off x="1440000" y="5864040"/>
                <a:ext cx="1565280" cy="374760"/>
                <a:chOff x="1440000" y="5864040"/>
                <a:chExt cx="1565280" cy="374760"/>
              </a:xfrm>
            </p:grpSpPr>
            <p:sp>
              <p:nvSpPr>
                <p:cNvPr id="551" name=""/>
                <p:cNvSpPr/>
                <p:nvPr/>
              </p:nvSpPr>
              <p:spPr>
                <a:xfrm>
                  <a:off x="1459080" y="5877000"/>
                  <a:ext cx="154620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2200" spc="-1" strike="noStrike">
                      <a:solidFill>
                        <a:srgbClr val="000000"/>
                      </a:solidFill>
                      <a:latin typeface="굴림"/>
                    </a:rPr>
                    <a:t>&lt;</a:t>
                  </a:r>
                  <a:r>
                    <a:rPr b="1" lang="ko-KR" sz="2200" spc="-1" strike="noStrike">
                      <a:solidFill>
                        <a:srgbClr val="000000"/>
                      </a:solidFill>
                      <a:latin typeface="굴림"/>
                    </a:rPr>
                    <a:t>수지액</a:t>
                  </a:r>
                  <a:r>
                    <a:rPr b="1" lang="ko-KR" sz="2200" spc="-1" strike="noStrike">
                      <a:solidFill>
                        <a:srgbClr val="000000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1440000" y="5864040"/>
                  <a:ext cx="154620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2200" spc="-1" strike="noStrike">
                      <a:solidFill>
                        <a:srgbClr val="dfdef6"/>
                      </a:solidFill>
                      <a:latin typeface="굴림"/>
                    </a:rPr>
                    <a:t>&lt;</a:t>
                  </a:r>
                  <a:r>
                    <a:rPr b="1" lang="ko-KR" sz="2200" spc="-1" strike="noStrike">
                      <a:solidFill>
                        <a:srgbClr val="dfdef6"/>
                      </a:solidFill>
                      <a:latin typeface="굴림"/>
                    </a:rPr>
                    <a:t>수지액</a:t>
                  </a:r>
                  <a:r>
                    <a:rPr b="1" lang="ko-KR" sz="2200" spc="-1" strike="noStrike">
                      <a:solidFill>
                        <a:srgbClr val="dfdef6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</p:grpSp>
        </p:grpSp>
        <p:pic>
          <p:nvPicPr>
            <p:cNvPr id="553" name="" descr=""/>
            <p:cNvPicPr/>
            <p:nvPr/>
          </p:nvPicPr>
          <p:blipFill>
            <a:blip r:embed="rId2"/>
            <a:stretch/>
          </p:blipFill>
          <p:spPr>
            <a:xfrm>
              <a:off x="431640" y="1305000"/>
              <a:ext cx="3600720" cy="2413080"/>
            </a:xfrm>
            <a:prstGeom prst="rect">
              <a:avLst/>
            </a:prstGeom>
            <a:ln w="38160">
              <a:solidFill>
                <a:srgbClr val="dfdef6"/>
              </a:solidFill>
              <a:miter/>
            </a:ln>
          </p:spPr>
        </p:pic>
      </p:grpSp>
      <p:sp>
        <p:nvSpPr>
          <p:cNvPr id="554" name=""/>
          <p:cNvSpPr/>
          <p:nvPr/>
        </p:nvSpPr>
        <p:spPr>
          <a:xfrm>
            <a:off x="4284720" y="1268280"/>
            <a:ext cx="4572000" cy="49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나무 수지액의 분비시기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5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~ 11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채취시기는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7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부터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9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채취방법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수간에 칼로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V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자나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자형으로 상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관에서 황색의 액이 배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처음에는 유백색의 액이 나오나 공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 중에서 서서히 수분을 잃고 황색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* 1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회 채취량이 약 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2mg/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㎠으로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아주 미량이다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0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56" name=""/>
          <p:cNvSpPr/>
          <p:nvPr/>
        </p:nvSpPr>
        <p:spPr>
          <a:xfrm>
            <a:off x="468360" y="1268280"/>
            <a:ext cx="8245440" cy="49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수지액의 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명성의 황금성을 나타내는 고광택 도료로서 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9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고 점도는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23 cps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저장안정성이 매우 양호한 천연의 무용제형 투명도료로서 황금색을 띠는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광택의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장 초에 상쾌한 향을 내지만 시간경과 후 방향성 물질이 휘발하면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향기는 없어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불순물로 활칠수지액은 분리 정제를 해야햐며 압착법의 수율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5~30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며 원심분리법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75~80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수율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중합성 도료로서 햇볕에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간 정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음지에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온상태에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0~1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간 소요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58" name=""/>
          <p:cNvSpPr/>
          <p:nvPr/>
        </p:nvSpPr>
        <p:spPr>
          <a:xfrm>
            <a:off x="468360" y="1268280"/>
            <a:ext cx="8245440" cy="37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경도는 양호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부착력은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충격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한열성은 양호하나 광택도는 떨어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상이 뛰어나고 작업성이 우수하나 내화학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안정성에 큰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금빛의 도료이기에 고품격 목재용 화장도료로 최적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향기가 우수하며 황칠은 금속공예에 금박을 넣은 것 같이 보여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공예품의 가치를 향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4T09:24:20Z</dcterms:created>
  <dc:creator>staff</dc:creator>
  <dc:description/>
  <dc:language>en-US</dc:language>
  <cp:lastModifiedBy>Daniel Yang</cp:lastModifiedBy>
  <dcterms:modified xsi:type="dcterms:W3CDTF">2009-09-13T09:09:54Z</dcterms:modified>
  <cp:revision>32</cp:revision>
  <dc:subject/>
  <dc:title>천연 캐슈 도료</dc:title>
</cp:coreProperties>
</file>