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A9A72-2850-474E-BDA3-C48E709C5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E49C0-3DEB-4712-9115-E295D58AE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FD846-174A-4B8A-9A16-5CF73C7A0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0167E-D6C0-48CA-A5A3-740A9A95D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8BE3F-00CD-4A62-8AF5-B6BF5078C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7E1A3-0B83-4F61-BE3E-05D551408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1E638-F9C5-4C47-B523-D4717F91D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7E966-2139-4156-B419-D6AB8F534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0F1DB-EE65-48BC-8759-9626E6538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DAF79-2645-4DFA-AE76-39E9FF8E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CFCDB-91AF-47A8-A430-79FE88CBB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36BF2-D3C3-42DE-8A33-7DC149DA2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9F022-06B9-4FFD-A0AC-4CC87E3CD3FD}" type="slidenum">
              <a:rPr b="0" lang="ko-K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0920" y="2205000"/>
            <a:ext cx="7543800" cy="259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독도가 한국영토인 근거</a:t>
            </a: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675e47"/>
                </a:solidFill>
                <a:latin typeface="Cambria"/>
              </a:rPr>
              <a:t>-</a:t>
            </a: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지리적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5300280"/>
            <a:ext cx="6462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 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1611888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영학과  안소민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는 우리땅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3" name="그림 2" descr=""/>
          <p:cNvPicPr/>
          <p:nvPr/>
        </p:nvPicPr>
        <p:blipFill>
          <a:blip r:embed="rId2"/>
          <a:stretch/>
        </p:blipFill>
        <p:spPr>
          <a:xfrm>
            <a:off x="2131920" y="1341360"/>
            <a:ext cx="4564080" cy="295272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1763640" y="4530600"/>
            <a:ext cx="584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0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월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25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일 독도의 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 동남쪽 뱃길 따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7K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외로운 섬 하나 새들의 고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누가 아무리 자기네 땅이라 우겨도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는 우리 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468360" y="1700280"/>
            <a:ext cx="424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동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주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8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의 다른 이름 독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             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7" name="그림 4" descr=""/>
          <p:cNvPicPr/>
          <p:nvPr/>
        </p:nvPicPr>
        <p:blipFill>
          <a:blip r:embed="rId2"/>
          <a:stretch/>
        </p:blipFill>
        <p:spPr>
          <a:xfrm>
            <a:off x="2744640" y="3178080"/>
            <a:ext cx="4591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서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1187280" y="1484280"/>
            <a:ext cx="63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북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7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4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0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동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3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4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시설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발전기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어민 대피시설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기상측정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사가 가파른 봉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많은 동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3635280" y="3357720"/>
            <a:ext cx="43214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동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3276720" y="3500280"/>
            <a:ext cx="4680000" cy="310356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900000" y="1380960"/>
            <a:ext cx="64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서도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51m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떨어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높이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98.6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둘레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.8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면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3.297m2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선착장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(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관광객 맞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)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담수화 시설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우리나라와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5" name="그림 3" descr=""/>
          <p:cNvPicPr/>
          <p:nvPr/>
        </p:nvPicPr>
        <p:blipFill>
          <a:blip r:embed="rId2"/>
          <a:srcRect l="0" t="23407" r="61114" b="45886"/>
          <a:stretch/>
        </p:blipFill>
        <p:spPr>
          <a:xfrm>
            <a:off x="395280" y="4292640"/>
            <a:ext cx="3205080" cy="1806480"/>
          </a:xfrm>
          <a:prstGeom prst="rect">
            <a:avLst/>
          </a:prstGeom>
          <a:ln w="0">
            <a:noFill/>
          </a:ln>
        </p:spPr>
      </p:pic>
      <p:pic>
        <p:nvPicPr>
          <p:cNvPr id="56" name="그림 4" descr=""/>
          <p:cNvPicPr/>
          <p:nvPr/>
        </p:nvPicPr>
        <p:blipFill>
          <a:blip r:embed="rId3"/>
          <a:stretch/>
        </p:blipFill>
        <p:spPr>
          <a:xfrm>
            <a:off x="3851280" y="3500280"/>
            <a:ext cx="4241880" cy="289908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1042920" y="1711440"/>
            <a:ext cx="64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울릉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87.4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16.8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과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9" name="그림 2" descr=""/>
          <p:cNvPicPr/>
          <p:nvPr/>
        </p:nvPicPr>
        <p:blipFill>
          <a:blip r:embed="rId2"/>
          <a:srcRect l="22242" t="6434" r="0" b="13570"/>
          <a:stretch/>
        </p:blipFill>
        <p:spPr>
          <a:xfrm>
            <a:off x="2700360" y="3068640"/>
            <a:ext cx="3568680" cy="262080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971640" y="1773360"/>
            <a:ext cx="61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섬 오키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57.5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쓰에와 오키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0 k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한국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971640" y="1268280"/>
            <a:ext cx="714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의 울릉도와 독도가 더 가까움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에서 독도 육안으로 관측가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이사부가 독도 점령당시 독도는 울릉도의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3" name="그림 3" descr=""/>
          <p:cNvPicPr/>
          <p:nvPr/>
        </p:nvPicPr>
        <p:blipFill>
          <a:blip r:embed="rId2"/>
          <a:stretch/>
        </p:blipFill>
        <p:spPr>
          <a:xfrm>
            <a:off x="684360" y="2511360"/>
            <a:ext cx="3860640" cy="3862440"/>
          </a:xfrm>
          <a:prstGeom prst="rect">
            <a:avLst/>
          </a:prstGeom>
          <a:ln w="0">
            <a:noFill/>
          </a:ln>
        </p:spPr>
      </p:pic>
      <p:pic>
        <p:nvPicPr>
          <p:cNvPr id="64" name="그림 4" descr=""/>
          <p:cNvPicPr/>
          <p:nvPr/>
        </p:nvPicPr>
        <p:blipFill>
          <a:blip r:embed="rId3"/>
          <a:stretch/>
        </p:blipFill>
        <p:spPr>
          <a:xfrm>
            <a:off x="4859280" y="3087720"/>
            <a:ext cx="3286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6" name="그림 2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3887640" cy="466704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4835520" y="2448000"/>
            <a:ext cx="32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가 무주지라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음대로 규정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후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영토로 편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5435640" y="4581360"/>
            <a:ext cx="220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내각회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결정의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정당성 주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가 한국영토인 이유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531800" y="1473120"/>
            <a:ext cx="5764320" cy="260352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1116000" y="4365720"/>
            <a:ext cx="67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지리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과 더 가까이 위치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실효적 지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현재 독도에 한국인 거주 및 지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법적 근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900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대한제국 칙령 제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4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호 발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선의 독도 영유권을 국제적으로 공표</a:t>
            </a:r>
            <a:br>
              <a:rPr sz="2400"/>
            </a:b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90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일본 발표보다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빠른 시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7T00:02:06Z</dcterms:created>
  <dc:creator>user</dc:creator>
  <dc:description/>
  <dc:language>en-US</dc:language>
  <cp:lastModifiedBy>LG</cp:lastModifiedBy>
  <dcterms:modified xsi:type="dcterms:W3CDTF">2017-03-29T01:57:47Z</dcterms:modified>
  <cp:revision>15</cp:revision>
  <dc:subject/>
  <dc:title>PowerPoint 프레젠테이션</dc:title>
</cp:coreProperties>
</file>